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8.jpeg" ContentType="image/jpeg"/>
  <Override PartName="/ppt/media/image41.jpeg" ContentType="image/jpeg"/>
  <Override PartName="/ppt/media/image39.jpeg" ContentType="image/jpeg"/>
  <Override PartName="/ppt/media/image8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6.png" ContentType="image/png"/>
  <Override PartName="/ppt/media/image29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6F3-B226-4F1C-BD08-FD5ED716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DF4-4C29-4654-B757-8AB1C191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32B-72AC-4730-A790-9C90DA63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D8B-DCD8-49E3-9BEF-69D4F591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59CD-3171-4DC3-9117-69DBAD67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5177-EC0B-4D42-A0DD-809A1E16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60F9-0AAB-4B6C-A5A4-63985D84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EDB0-D72B-400A-9AA1-EDE0044E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BA2F-CBCE-40C1-A0C9-86B3262D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2229-E73A-4195-99B1-E8E17AD5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56D8-6935-4C2A-9271-6DC707A9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FC3-E3C6-45D4-93C7-1BD004BF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BF86-E08D-4CDD-9505-661712D6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B0F4-4A34-4991-BCB2-A8C4C421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B5B0-A4C5-48AE-9036-72A11689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0E3A-0F7D-4EAF-BC02-39F4093A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CBB7-2377-4C3F-A686-01441A86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DD344-2C0D-4634-9B68-EA63D5A9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E1984-A5BC-4E99-8C2C-27D1C2E5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66E7C-7090-47F2-B730-E38AAA1F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FA014-DCF0-4416-8856-FB0418A6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AA254-0255-43F5-8EE4-B31F1A85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5243-0D32-4D57-9DA7-6BA286BB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0B28-5ADE-4CE8-A5BB-D966242E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2AAC-9498-488F-BE89-F1CAC1B5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A6C9B-E817-42A9-A9A1-B8A34544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C739-77B7-4A82-B3AF-A2526FB5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26D5A-BF6E-4EC3-A319-2394DBDB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34B7-06BC-42E9-9A7D-DD5045FA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25129-482D-492F-A406-78FE1B93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3A23C-CDAA-4671-AFFA-76E67B1E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80BDC-503D-4F88-9F64-F393418D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5E7A8-5C7F-4FBE-AF37-EC667DFC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D71-C600-4396-8BC5-9A1AFBF3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4764A-C372-4512-92A7-0D993D53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09D45-29FE-4315-B932-E35F15AB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112D9-254F-4329-A019-5CF984E1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14666-0E37-4C74-BD0F-A9A8E67C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24D4C-E22E-4544-B613-1CC31FBE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B4150-A735-4270-B407-B31D3402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20A87-6CDE-4374-80D3-24FA112F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22EA8-ADA6-4478-B90D-8A019229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1B9AE-58C5-41B4-9976-ED2575EE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147-109B-4522-84FA-EC872E42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48F-C2D0-4182-8173-690E08CE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44D-19AC-44FA-8DC9-521AD4D5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052-1A53-481F-8866-A12845BD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AA85-20A6-41C1-98C5-3D16A611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A1F3-F515-4302-A177-D709C8A293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8C2B-81E9-4104-9B0F-BBD062A70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D949-505E-477D-9B2A-04F844724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D236-EC04-44B3-9DE7-B9C198117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2428920"/>
            <a:ext cx="87156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ОБОЉЕЊА</a:t>
            </a:r>
            <a:r>
              <a:rPr b="1" lang="sr-Latn-CS" sz="4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ПЉУВАЧНИХ</a:t>
            </a:r>
            <a:r>
              <a:rPr b="1" lang="sr-Latn-CS" sz="4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ЖЛ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0</a:t>
            </a:r>
            <a:r>
              <a:rPr b="0" lang="sr-R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БОЉЕЊ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ИХ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РОЂЕНЕ АНОМА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ПАЉЕЊА ПЉУВАЧНИХ ЖЛ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ОЉЕЊА У СКЛОПУ РЕУМАТСКИХ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ИЈАЛОЛИТИЈ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Ц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000272"/>
          <p:cNvPicPr/>
          <p:nvPr/>
        </p:nvPicPr>
        <p:blipFill>
          <a:blip r:embed="rId2"/>
          <a:stretch/>
        </p:blipFill>
        <p:spPr>
          <a:xfrm>
            <a:off x="4876920" y="1523880"/>
            <a:ext cx="3962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ИЈАГНОСТИК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БОЉЕЊ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ИХ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9680" y="126828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глед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тив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мц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алограф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цинтиграф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лтразву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хограф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мпјутеризов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омограф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уклеар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гнет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зонанц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M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столош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гле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асич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опс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спирацио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иопс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ЛИНИЧК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ГЛ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0040" y="10717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г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азуме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спек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ондир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спекциј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ич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ољаш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г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ифицију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д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гле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прес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андибу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мануе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у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раора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лингвал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у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ак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ж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андибулар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bimanual_palpation1333803711520"/>
          <p:cNvPicPr/>
          <p:nvPr/>
        </p:nvPicPr>
        <p:blipFill>
          <a:blip r:embed="rId2"/>
          <a:stretch/>
        </p:blipFill>
        <p:spPr>
          <a:xfrm>
            <a:off x="609480" y="4160880"/>
            <a:ext cx="3810240" cy="2411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afp20020401p1379-f1b"/>
          <p:cNvPicPr/>
          <p:nvPr/>
        </p:nvPicPr>
        <p:blipFill>
          <a:blip r:embed="rId3"/>
          <a:stretch/>
        </p:blipFill>
        <p:spPr>
          <a:xfrm>
            <a:off x="4648320" y="4141800"/>
            <a:ext cx="32763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РОЂЕ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НОМАЛ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рођ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генез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ливар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ихов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тк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су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оплаз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е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атроф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генитал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лформа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во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крж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уков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цесор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е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ен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з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glandula parotis access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ерплаз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једи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уп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ре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ч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нгвалн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де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блингвалн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лездам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ЗАПАЉЕНСКА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ОБОЉЕЊА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ПЉУВАЧНИХ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демич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актеријс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алоаденити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kulic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в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jög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ндр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алолитија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с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л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ЕПИДЕМИЧНИ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МУМП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2560" y="1357200"/>
            <a:ext cx="450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пидемич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ази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иру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финит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њих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даниц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за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нкреа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стис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нтагиоз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енерализова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аће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већањ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ндемич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рбани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редина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пљич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ицира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рин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тављ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ај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унитет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начај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ференцијал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агноз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курент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аденитису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пидемич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мптоматско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Mumps"/>
          <p:cNvPicPr/>
          <p:nvPr/>
        </p:nvPicPr>
        <p:blipFill>
          <a:blip r:embed="rId4"/>
          <a:stretch/>
        </p:blipFill>
        <p:spPr>
          <a:xfrm>
            <a:off x="4724280" y="1523880"/>
            <a:ext cx="3905280" cy="2286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parotitis2"/>
          <p:cNvPicPr/>
          <p:nvPr/>
        </p:nvPicPr>
        <p:blipFill>
          <a:blip r:embed="rId5"/>
          <a:stretch/>
        </p:blipFill>
        <p:spPr>
          <a:xfrm>
            <a:off x="4800600" y="3962520"/>
            <a:ext cx="38098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8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29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аден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азв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ктерија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гађ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ли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андибуларну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специфич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сцендент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алн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упљи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ар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ктоге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и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ариј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есни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ронич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лењ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мањ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ц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љувач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лев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испонирајућ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на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сцендент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д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хидратац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куд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ал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гиј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лабљ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порнос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8554028_f260"/>
          <p:cNvPicPr/>
          <p:nvPr/>
        </p:nvPicPr>
        <p:blipFill>
          <a:blip r:embed="rId2"/>
          <a:stretch/>
        </p:blipFill>
        <p:spPr>
          <a:xfrm>
            <a:off x="762120" y="4038480"/>
            <a:ext cx="2476440" cy="2467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ANd9GcQkw7KD2FY3laCFxIahfD27i_pD6B5kNoPy03EerTKuaXx0RZY8"/>
          <p:cNvPicPr/>
          <p:nvPr/>
        </p:nvPicPr>
        <p:blipFill>
          <a:blip r:embed="rId3"/>
          <a:stretch/>
        </p:blipFill>
        <p:spPr>
          <a:xfrm>
            <a:off x="3581280" y="4035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prostom31"/>
          <p:cNvPicPr/>
          <p:nvPr/>
        </p:nvPicPr>
        <p:blipFill>
          <a:blip r:embed="rId4"/>
          <a:stretch/>
        </p:blipFill>
        <p:spPr>
          <a:xfrm>
            <a:off x="6172200" y="4035600"/>
            <a:ext cx="243828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864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8520" y="1700280"/>
            <a:ext cx="56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специфич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в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орм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роз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нојни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роз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а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ла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већа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паљењ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глав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ухваћ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икулар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ниц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ластич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ка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нзистен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дир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прес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б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мућ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т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пш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инимални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ољан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х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уб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ц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ормалн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розн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а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чета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рулент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ParotitisG"/>
          <p:cNvPicPr/>
          <p:nvPr/>
        </p:nvPicPr>
        <p:blipFill>
          <a:blip r:embed="rId2"/>
          <a:stretch/>
        </p:blipFill>
        <p:spPr>
          <a:xfrm>
            <a:off x="5796000" y="203364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9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рулент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гл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брз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ир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ње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јек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ижућ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урикул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виш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пољ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аћ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тензив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ов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пуратив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иброз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псул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ж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перемич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тегну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јај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пл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лпац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с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н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врс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нзистен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вара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граниче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измусо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зличит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епен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ифицијум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ар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пи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ен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оча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устог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ној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обод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ица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рулент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прес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суств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ид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ил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рулент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циј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нилатерал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т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илатерал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хектич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цпрље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есни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тход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им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илатерал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обичн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аж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ференцијал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агно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пидемич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СИАЛОАДЕНИТИС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СУБМАНДИБУЛАРНЕ</a:t>
            </a:r>
            <a:r>
              <a:rPr b="1" lang="sr-Latn-C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Arial"/>
              </a:rPr>
              <a:t>ЖЛЕЗД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386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аден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андибулар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чи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ненад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андибулар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ги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с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пољав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већ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лпатор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н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еч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рунку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перемич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еч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циј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јача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лаг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прес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д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ниц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азивајућ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ериаден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елулити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андибулар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г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фекци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а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пштег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олесни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лаж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мптом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рулент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ротитис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SpeidrAbsz"/>
          <p:cNvPicPr/>
          <p:nvPr/>
        </p:nvPicPr>
        <p:blipFill>
          <a:blip r:embed="rId2"/>
          <a:stretch/>
        </p:blipFill>
        <p:spPr>
          <a:xfrm>
            <a:off x="6200640" y="1773360"/>
            <a:ext cx="2529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3840" y="1700280"/>
            <a:ext cx="44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гзокр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еродигестив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нов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вар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уч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к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00-1000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руп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ад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андибу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лингвал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з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опстве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-21542040" y="-263027880"/>
            <a:ext cx="646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juv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-7947360" y="-263027880"/>
            <a:ext cx="5020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žlezde su egzokrine žlezde gornjeg aerodigestivnog trakta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4887880" y="-263027880"/>
            <a:ext cx="1305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a je osnov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-21925800" y="-85482000"/>
            <a:ext cx="1924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a stvaranje i lu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-3985200" y="-85482000"/>
            <a:ext cx="1171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 pljuv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2163960" y="-85482000"/>
            <a:ext cx="4534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. Postoji tri para velikih i oko 700-1000 malih pljuv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0578400" y="-85482000"/>
            <a:ext cx="490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-21926520" y="92063880"/>
            <a:ext cx="2581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lezda. U grupu velikih pljuva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437400" y="92063880"/>
            <a:ext cx="5013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h žlezda spadaju: parotidne, submandibularne i sublingval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-21931920" y="269587080"/>
            <a:ext cx="612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lezde. One su sa usnom dupljom povezane preko sopstvenih izvodnih kana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6" descr="sal_g_st"/>
          <p:cNvPicPr/>
          <p:nvPr/>
        </p:nvPicPr>
        <p:blipFill>
          <a:blip r:embed="rId2"/>
          <a:stretch/>
        </p:blipFill>
        <p:spPr>
          <a:xfrm>
            <a:off x="4971960" y="1676520"/>
            <a:ext cx="3714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068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разуме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ход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лаз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и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тибиограм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дат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рапијс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разумев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ликац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тифлогист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кохол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ло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љ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игороз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гије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зинфицијенс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пир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код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имул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лив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му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исе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мбо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ч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бсце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дикова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циз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енаж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циз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ш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љ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ем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бо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циз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чу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пограф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цијал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ивц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4792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з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о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курент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нов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ен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ишав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оли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рж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ц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уп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симптомат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иод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е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нав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как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вил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досле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ењују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изменичн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ђусоб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симптоматс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иод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ј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у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acute_infectious_parotitis1"/>
          <p:cNvPicPr/>
          <p:nvPr/>
        </p:nvPicPr>
        <p:blipFill>
          <a:blip r:embed="rId2"/>
          <a:stretch/>
        </p:blipFill>
        <p:spPr>
          <a:xfrm>
            <a:off x="5683320" y="1562040"/>
            <a:ext cx="30798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и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енад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већав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вак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ањио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менљи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7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лач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лпац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збо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ласт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зистен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а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прес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ифицију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љу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гусну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л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сте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ро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иц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очав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о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ес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урулент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мућ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нек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стро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личас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хуљицам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ање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ес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е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воћ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ријат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ус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уж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ј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личи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ти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и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курент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личи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пизода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глед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кре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јалограф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у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агоце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моћ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актерист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алоектаз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устин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764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рана која стимулише саливацију, кисели слаткиши, жвакаћа г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ална хигиј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руршко лечење које обухвата субтоталну и тоталну паротидектомију индиковано је код болесника који имају опструктивне сметње са учесталим егзацербацијама у току вишегодишњег пери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parotidectomy3forde020409retrogradeb"/>
          <p:cNvPicPr/>
          <p:nvPr/>
        </p:nvPicPr>
        <p:blipFill>
          <a:blip r:embed="rId2"/>
          <a:stretch/>
        </p:blipFill>
        <p:spPr>
          <a:xfrm>
            <a:off x="4876920" y="198900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IKULICZ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ВO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БОЉ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kulic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в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ће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метричн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већањ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рималн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ливарних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кудн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мптоматологиј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нигн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бил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зи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a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о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kulicz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892.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оди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јави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лучај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jögren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НД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2560" y="1285920"/>
            <a:ext cx="47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пу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виј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jögr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ндр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ћ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ијас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ад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ератоцоњунцтив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ц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ростоми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хеуматои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ртхритис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пу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сут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ес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ж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ружених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ав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сут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м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плекс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ањ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кре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кримал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ливар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стемск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утоиму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знач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sicca compl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photo_1-1c55ceda05a10f7be9795067cee243f5"/>
          <p:cNvPicPr/>
          <p:nvPr/>
        </p:nvPicPr>
        <p:blipFill>
          <a:blip r:embed="rId2"/>
          <a:stretch/>
        </p:blipFill>
        <p:spPr>
          <a:xfrm>
            <a:off x="5000760" y="4357800"/>
            <a:ext cx="1447560" cy="2133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756148-808418-809290-1782295"/>
          <p:cNvPicPr/>
          <p:nvPr/>
        </p:nvPicPr>
        <p:blipFill>
          <a:blip r:embed="rId3"/>
          <a:stretch/>
        </p:blipFill>
        <p:spPr>
          <a:xfrm>
            <a:off x="5002200" y="1295280"/>
            <a:ext cx="3855960" cy="295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52569694225"/>
          <p:cNvPicPr/>
          <p:nvPr/>
        </p:nvPicPr>
        <p:blipFill>
          <a:blip r:embed="rId4"/>
          <a:stretch/>
        </p:blipFill>
        <p:spPr>
          <a:xfrm>
            <a:off x="6643800" y="4572000"/>
            <a:ext cx="2209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Sjögren</a:t>
            </a:r>
            <a:r>
              <a:rPr b="1" i="1" lang="sr-Latn-C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СИНД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мптомат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дини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минант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нифест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и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мини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уматоид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ртр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инфламатор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тикостерои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ш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динир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уносупресив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серостом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серофталм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азуме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но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имулац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лив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алогог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ко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илокарп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иридостигм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венту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ртифиције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ли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штач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ств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и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елуло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ЈАЛОЛИТИЈ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79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алолитиј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ир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лцификова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креме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енхи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л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волу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јалоли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пу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з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п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маж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ихо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ирањ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алол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ир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андибуларн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тидн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ређ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лингвалн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SM+stones"/>
          <p:cNvPicPr/>
          <p:nvPr/>
        </p:nvPicPr>
        <p:blipFill>
          <a:blip r:embed="rId2"/>
          <a:stretch/>
        </p:blipFill>
        <p:spPr>
          <a:xfrm>
            <a:off x="5448240" y="128592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Salivary_gland_stone_removed"/>
          <p:cNvPicPr/>
          <p:nvPr/>
        </p:nvPicPr>
        <p:blipFill>
          <a:blip r:embed="rId3"/>
          <a:stretch/>
        </p:blipFill>
        <p:spPr>
          <a:xfrm>
            <a:off x="5381640" y="3486240"/>
            <a:ext cx="31003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0120" y="16524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ИЈАЛОЛИТИЈ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3480" y="1213920"/>
            <a:ext cx="5600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л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меште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ег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овлађу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потпу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тпу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пструкциј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та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опаже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чињав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икак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мет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па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арној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пили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л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кретањ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кљеш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ст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во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лазно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вор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ар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пил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пре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ицањ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посред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л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ливар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ли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аће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литија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а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лит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утн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а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нтибиотиц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ст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мптоматс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иалолитектом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лкулу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у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трагландулар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лкулу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страњ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тирпациј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оле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maxresdefault"/>
          <p:cNvPicPr/>
          <p:nvPr/>
        </p:nvPicPr>
        <p:blipFill>
          <a:blip r:embed="rId2"/>
          <a:srcRect l="6835" t="6063" r="8465" b="5706"/>
          <a:stretch/>
        </p:blipFill>
        <p:spPr>
          <a:xfrm>
            <a:off x="5724360" y="2427120"/>
            <a:ext cx="32292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ЦИСТЕ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ЉУВАЧНИХ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0040" y="1528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с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л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љувач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лезд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77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нул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JClinImagingSci_2013_3_2_10_120793_u1"/>
          <p:cNvPicPr/>
          <p:nvPr/>
        </p:nvPicPr>
        <p:blipFill>
          <a:blip r:embed="rId2"/>
          <a:stretch/>
        </p:blipFill>
        <p:spPr>
          <a:xfrm>
            <a:off x="4714920" y="3786120"/>
            <a:ext cx="3197160" cy="2436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ANd9GcTYMl3M_rxqVfBBbJQgfxkgXZLOa59nOqF3XfFXNWbfyzVlskZTuQ"/>
          <p:cNvPicPr/>
          <p:nvPr/>
        </p:nvPicPr>
        <p:blipFill>
          <a:blip r:embed="rId3"/>
          <a:stretch/>
        </p:blipFill>
        <p:spPr>
          <a:xfrm>
            <a:off x="1133640" y="3786120"/>
            <a:ext cx="28954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920" y="157176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шт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укоз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о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ринк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асифик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томск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изац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бијал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кал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атинал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нзилар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бер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тромолар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нгв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ланд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унов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ч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виц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з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бнер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ринге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thyroid_cancer-2"/>
          <p:cNvPicPr/>
          <p:nvPr/>
        </p:nvPicPr>
        <p:blipFill>
          <a:blip r:embed="rId3"/>
          <a:stretch/>
        </p:blipFill>
        <p:spPr>
          <a:xfrm>
            <a:off x="4724280" y="1752480"/>
            <a:ext cx="3911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112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УКОКЕ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529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птас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орма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ова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укозал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о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пљ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пуње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узав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држај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рекл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л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честал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д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иста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узим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77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столошко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д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травазацио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тенцион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кстравазацио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цидивант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икротраум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вик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ицка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едстве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з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тенцион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пструк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икролит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гуснути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крет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триктур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вод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2894742_1472-6831-10-15-5"/>
          <p:cNvPicPr/>
          <p:nvPr/>
        </p:nvPicPr>
        <p:blipFill>
          <a:blip r:embed="rId2"/>
          <a:stretch/>
        </p:blipFill>
        <p:spPr>
          <a:xfrm>
            <a:off x="5594400" y="1413000"/>
            <a:ext cx="3186000" cy="2365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mucocele"/>
          <p:cNvPicPr/>
          <p:nvPr/>
        </p:nvPicPr>
        <p:blipFill>
          <a:blip r:embed="rId3"/>
          <a:stretch/>
        </p:blipFill>
        <p:spPr>
          <a:xfrm>
            <a:off x="5580000" y="3959280"/>
            <a:ext cx="318600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МУКОКЕ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9680" y="1214280"/>
            <a:ext cx="80326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птаст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л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лавка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бој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езбо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луктуир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лпациј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промењ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-1.5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чни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сти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чи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шњ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ликова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авазаци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тенцио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кел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рурш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азуме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ирпа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ке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mucous_retention_cyst1316297207789"/>
          <p:cNvPicPr/>
          <p:nvPr/>
        </p:nvPicPr>
        <p:blipFill>
          <a:blip r:embed="rId3"/>
          <a:stretch/>
        </p:blipFill>
        <p:spPr>
          <a:xfrm>
            <a:off x="380880" y="4038480"/>
            <a:ext cx="2743200" cy="2033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ANd9GcSlmNjl7ak6eMpxPD8ZMzkqKXsz3VK8FRtQn1LkUAmVcQjJi9Ar"/>
          <p:cNvPicPr/>
          <p:nvPr/>
        </p:nvPicPr>
        <p:blipFill>
          <a:blip r:embed="rId4"/>
          <a:stretch/>
        </p:blipFill>
        <p:spPr>
          <a:xfrm>
            <a:off x="3200400" y="40384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mucocele-1024x682"/>
          <p:cNvPicPr/>
          <p:nvPr/>
        </p:nvPicPr>
        <p:blipFill>
          <a:blip r:embed="rId5"/>
          <a:stretch/>
        </p:blipFill>
        <p:spPr>
          <a:xfrm>
            <a:off x="6019920" y="4038480"/>
            <a:ext cx="26668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РАНУ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29600" cy="27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ултилокулар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ис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ов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укоз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њ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л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терал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600" spc="-1" strike="noStrike">
                <a:solidFill>
                  <a:srgbClr val="000000"/>
                </a:solidFill>
                <a:latin typeface="Arial"/>
              </a:rPr>
              <a:t>frenulum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600" spc="-1" strike="noStrike">
                <a:solidFill>
                  <a:srgbClr val="000000"/>
                </a:solidFill>
                <a:latin typeface="Arial"/>
              </a:rPr>
              <a:t>lingua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зи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тич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тинс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аб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зи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вероватн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з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ич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гле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ис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анслуцентни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абљ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бухом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дјусобн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зликуј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линич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гле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рш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бо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clip_image002_0004"/>
          <p:cNvPicPr/>
          <p:nvPr/>
        </p:nvPicPr>
        <p:blipFill>
          <a:blip r:embed="rId2"/>
          <a:stretch/>
        </p:blipFill>
        <p:spPr>
          <a:xfrm>
            <a:off x="765000" y="4214880"/>
            <a:ext cx="2587680" cy="1904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downloadRANULA"/>
          <p:cNvPicPr/>
          <p:nvPr/>
        </p:nvPicPr>
        <p:blipFill>
          <a:blip r:embed="rId3"/>
          <a:stretch/>
        </p:blipFill>
        <p:spPr>
          <a:xfrm>
            <a:off x="3505320" y="4214880"/>
            <a:ext cx="2590560" cy="1904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ANd9GcS39wVCiEBRUjmoO23wuID4XVvdbVWCet62kCnCVO2HOJWQwpUt"/>
          <p:cNvPicPr/>
          <p:nvPr/>
        </p:nvPicPr>
        <p:blipFill>
          <a:blip r:embed="rId4"/>
          <a:stretch/>
        </p:blipFill>
        <p:spPr>
          <a:xfrm>
            <a:off x="6248520" y="4214880"/>
            <a:ext cx="24382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РАНУ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2560" y="1266480"/>
            <a:ext cx="5715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рш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ов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. mylohyoideu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бо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ви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лик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исагас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и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анијал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удал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по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sr-Latn-RS" sz="1600" spc="-1" strike="noStrike">
                <a:solidFill>
                  <a:srgbClr val="000000"/>
                </a:solidFill>
                <a:latin typeface="Arial"/>
              </a:rPr>
              <a:t>mylohyoideu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аријет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бо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гле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ешчан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т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нирућ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и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већи де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лаз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прахиоид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рш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рактеристича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глед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лавкаст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бојен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нзистенци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ма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по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узокож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бо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до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. mylohyoideus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ољашњи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ок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окализу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бментал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нул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ируршко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22-1460176%5C35af3e2b-3d43-4eea-a6b1-f44678eb8e48"/>
          <p:cNvPicPr/>
          <p:nvPr/>
        </p:nvPicPr>
        <p:blipFill>
          <a:blip r:embed="rId2"/>
          <a:stretch/>
        </p:blipFill>
        <p:spPr>
          <a:xfrm>
            <a:off x="5808600" y="2428920"/>
            <a:ext cx="31212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9680" y="1357200"/>
            <a:ext cx="85359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стоморфолош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укту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цин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роз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бнеро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коз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пч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з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шов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мандибу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лингв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биј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к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X2604-S-03"/>
          <p:cNvPicPr/>
          <p:nvPr/>
        </p:nvPicPr>
        <p:blipFill>
          <a:blip r:embed="rId2"/>
          <a:stretch/>
        </p:blipFill>
        <p:spPr>
          <a:xfrm>
            <a:off x="2050920" y="3570120"/>
            <a:ext cx="5639040" cy="27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УНКЦИЈ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14200" y="1599840"/>
            <a:ext cx="8715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значај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жа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лаж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лакша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вак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ут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лакша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в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зиолош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шћ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тектив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уноглобули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Ig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ктофер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зоз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оксид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гестив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нз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мила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почи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гест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ор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кретор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калои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ру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чн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лиомијели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епати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убео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coxack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AI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руп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реднич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у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ствар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пстан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езб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в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их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устатив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пускул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ЕЛИК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ЉУВАЧ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image"/>
          <p:cNvPicPr/>
          <p:nvPr/>
        </p:nvPicPr>
        <p:blipFill>
          <a:blip r:embed="rId2"/>
          <a:stretch/>
        </p:blipFill>
        <p:spPr>
          <a:xfrm>
            <a:off x="990720" y="1371600"/>
            <a:ext cx="716256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ТИДН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ротидна жлезда је највећа пљувачна жлезда, искључиво серозног тип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стоји се из два лобуса, суперфицијалног и дубок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роз ткиво жлезде пролаз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. facialis, n. auriculotemporalis, n. auricularis magnus, v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cialis poster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пољна југуларна вена, стабло спољне каротидне артерије која се горњем делу жлезде рачва у завршне жлезде и дубоке паротидне лимфне чвор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saliva19a"/>
          <p:cNvPicPr/>
          <p:nvPr/>
        </p:nvPicPr>
        <p:blipFill>
          <a:blip r:embed="rId2"/>
          <a:stretch/>
        </p:blipFill>
        <p:spPr>
          <a:xfrm>
            <a:off x="457200" y="1828800"/>
            <a:ext cx="3733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УБМАНДИБУЛАРН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мандибулар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љувач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и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в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от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ешт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мандибулар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стор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м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о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ив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су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ш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ас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сти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оид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жлезд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в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вод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ductus submandibularis Wharto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в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caruncula sublingual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јед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ртхол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језич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на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ренулу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зик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salivanet47"/>
          <p:cNvPicPr/>
          <p:nvPr/>
        </p:nvPicPr>
        <p:blipFill>
          <a:blip r:embed="rId2"/>
          <a:stretch/>
        </p:blipFill>
        <p:spPr>
          <a:xfrm>
            <a:off x="4762440" y="2519280"/>
            <a:ext cx="38102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СУБЛИНГВАЛН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јез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м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шт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језич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пљ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ав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д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артхол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је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два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едње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нутраш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лингв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рш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caruncula sublingu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јед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hartonov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г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salivanet53"/>
          <p:cNvPicPr/>
          <p:nvPr/>
        </p:nvPicPr>
        <p:blipFill>
          <a:blip r:embed="rId2"/>
          <a:stretch/>
        </p:blipFill>
        <p:spPr>
          <a:xfrm>
            <a:off x="4648320" y="23004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2:29:17Z</dcterms:modified>
  <cp:revision>739</cp:revision>
  <dc:subject/>
  <dc:title>Diapositiva 1</dc:title>
</cp:coreProperties>
</file>